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18C-0D47-4E3D-93AB-F7B15A85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1CB-6596-4AFB-8BDF-F9BE9259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9495-5108-41FB-A666-2929DD0B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D91-9689-48E0-AFB0-F0218BDE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4324-868D-429A-BDE7-354E679F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C0D8-FD5A-46DD-B2D3-DEFE22AB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7E8F-EC39-468B-B942-26C35A64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84E0-C16C-49CE-A150-FDA5C451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2492-0D1F-414E-81F6-C86EFDB1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174C-ACFF-4E44-9E74-70C433F4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4C1E-A77A-48E7-8218-245D9BA7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E00-8096-493B-9028-EA50DAA6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E45E-D3B7-4DF8-B864-4FA19C1B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4F74-4D3C-4CC8-BF8A-F6A1DF8B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95A6-3000-483A-A6A3-7617EACA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DE90-42A2-498D-88A9-91202BBD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1EC7-DDA0-4CF5-9C97-F4164D11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362E-7945-4D04-81C7-D5111949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BF1-F78F-48F4-B6E5-2C466B19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A45-29E3-407D-B7BC-57406B58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B58C-83B3-4851-80C7-ACFFD4F8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033-FFF6-4726-A9E9-6E0F6A5B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BFDC-384E-4F56-A553-377E6D6B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C3E-59BD-4413-A2A4-2475F47E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5ABC-F744-4B38-AE5D-4076D1DDCF2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318C-49D6-40E7-8ABD-2D6B8B18390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my.hrw.com/math06_07/nsmedia/tools/Algebra_Tiles/Algebra_Tiles.html" TargetMode="External"/><Relationship Id="rId2" Type="http://schemas.openxmlformats.org/officeDocument/2006/relationships/hyperlink" Target="http://nlvm.usu.edu/en/nav/topic_t_2.html" TargetMode="External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Do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gebra Ti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7920" y="3733560"/>
            <a:ext cx="71625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 HYBIRD ALGEBRA RESEARCH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apted from David McReynolds, AIMS PreK-16 Proj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 Noel Villarreal, South Texas Rural Systemic Initiat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ddit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+3) + (+1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ed like objects to get four posi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-2) + (-1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ed like objects to get three neg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19810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19810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19810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4038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4038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4038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EC1-0CDD-4B45-B40F-D4740850E5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77778E-006 L -0.05833 -7.77778E-006 E">
                                      <p:cBhvr>
                                        <p:cTn id="23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77778E-006 L -0.05 -7.77778E-006 E">
                                      <p:cBhvr>
                                        <p:cTn id="25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ddit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+3) + (-1)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zeroes to get two posi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+3) + (-4) =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three zeroes to get one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students have seen many examples of addition, have them formulate ru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429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3429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3429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19810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3429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3429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3429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153280" y="3429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190512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3526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9B2-E43E-4980-87B0-ED0267F9F8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btract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traction can be interpreted as “take-away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traction can also be thought of as “adding the opposite.” (must be extensively scaffolded before students are asked to develo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ach of the given examples, use algebra tiles to model the subtra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w pictorial diagrams which show the modeling proc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a description of the actions t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8BA1-1C6D-488F-ACBF-0AE30F91F9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+5) – (+2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 away two posi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get three posi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-4) – (-3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 away three neg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get one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btract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11480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91120" y="19051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3B9-601A-4B0F-B893-C2D3BA0F55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btracting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96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+3) – (-5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five zeroes; Take away five neg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get eight posi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-4) – (+1)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one zero; Take away one po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get five neg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16765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16765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16765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13372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1337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21337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2920" y="21337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96080" y="213372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16765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1676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1676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62920" y="1676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96080" y="16765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48769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44197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44197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441972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44197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86600" y="44197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25160" y="152388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9560" y="4267080"/>
            <a:ext cx="51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E73-B99C-4CE4-A3E1-218C9F3CB935}" type="slidenum">
              <a:t>14</a:t>
            </a:fld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btracting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+3) – (-3)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 students have seen many examples, have them formulate rules for integer subtra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+3) – (-3) is the same as 3 + 3 to get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55627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55627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55627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55627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55627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55627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462-DBB2-4530-97F7-7D3FC28A19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plicat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er multiplication builds on whole number multiplic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oncept that the multiplier serves as the “counter” of sets need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he given examples, use the algebra tiles to model the multiplication.  Identify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ultipli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u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w pictorial diagrams which model the multiplication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a description of the actions per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910-5AD3-4696-B8D1-B8C53AF7DC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plicat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ounter indicates how many rows to make.  It has this meaning if it is positi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+2)(+3) 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+3)(-4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3429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3429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3429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4572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4572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572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572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50292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50292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50292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50292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54864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54864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54864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54864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9920" y="12193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3048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groups of three positiv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4724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groups of four negativ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281952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449568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12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FD6-4AF5-401E-9834-DB4F148F13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1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plicat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counter is negative it will mean “take the opposite of.”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indicate the motion “flip-over”, but be very careful using that termin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-2)(+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-3)(-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3962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19720" y="3962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6920" y="3962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44197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44197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44197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50292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54864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5943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4038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groups of thre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525780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site of three groups of negative on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three positiv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74000" y="4495680"/>
            <a:ext cx="2355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site of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six negatives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14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88620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-6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502920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+3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E64-99D1-4AF1-AF64-3F643497B7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9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9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9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9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1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2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2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plicat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 students have seen many examples, have them formulate rules for integer multiplic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students practice applying rules abstractly with larger integ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57A-D7E6-41BE-9E84-B54CEC4C54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lgebra Ti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ipulatives used to enhance student understanding of concepts traditionally taught at symbolic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access to symbol manipulation for students with weak number sen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geometric interpretation of symbol mani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C8C-36AA-46F6-B1A3-C27FBC7EA4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vis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ke multiplication, division relies on the concept of a coun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isor serves as counter since it indicates the number of rows to cre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the given examples, use algebra tiles to model the division.  Identify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vis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unt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Draw pictorial diagrams which model the proc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275-914E-4250-B4F0-7D74DADCC2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vis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+6)/(+2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ide into two equal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-8)/(+2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ide into two equal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412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9132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9112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0552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7712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3432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44B2-124B-4D11-B551-FE7A97B678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 0.1 E">
                                      <p:cBhvr>
                                        <p:cTn id="762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 0.1 E">
                                      <p:cBhvr>
                                        <p:cTn id="764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0.15 0.1 E">
                                      <p:cBhvr>
                                        <p:cTn id="76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 0.1 E">
                                      <p:cBhvr>
                                        <p:cTn id="799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 0.1 E">
                                      <p:cBhvr>
                                        <p:cTn id="801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 0.1 E">
                                      <p:cBhvr>
                                        <p:cTn id="803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 0.1 E">
                                      <p:cBhvr>
                                        <p:cTn id="805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vis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egative divisor will mean “take the opposite of.”  (flip-ov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+10)/(-2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ide into two equal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opposite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get five neg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053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625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41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913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280368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997-D94B-42E8-B8FB-2F0428CAE4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08889 E">
                                      <p:cBhvr>
                                        <p:cTn id="817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08889 E">
                                      <p:cBhvr>
                                        <p:cTn id="819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08889 E">
                                      <p:cBhvr>
                                        <p:cTn id="821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08889 E">
                                      <p:cBhvr>
                                        <p:cTn id="823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08889 E">
                                      <p:cBhvr>
                                        <p:cTn id="825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6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vis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-12)/(-3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 students have seen many examples, have them formulate rul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004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576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008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190512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7E7-CAE9-4D03-9390-932342B995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 0.07778 E">
                                      <p:cBhvr>
                                        <p:cTn id="875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 0.07778 E">
                                      <p:cBhvr>
                                        <p:cTn id="877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 0.07778 E">
                                      <p:cBhvr>
                                        <p:cTn id="879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 0.07778 E">
                                      <p:cBhvr>
                                        <p:cTn id="88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 0.16667 E">
                                      <p:cBhvr>
                                        <p:cTn id="883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 0.16667 E">
                                      <p:cBhvr>
                                        <p:cTn id="885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 0.16667 E">
                                      <p:cBhvr>
                                        <p:cTn id="887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 0.16667 E">
                                      <p:cBhvr>
                                        <p:cTn id="889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9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9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99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0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0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0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1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14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1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2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2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2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nomials are unlike the other ‘numbers’ students learn how to add, subtract, multiply, and divide.  They are not ‘counting’ numbers.  Giving polynomials a concrete reference (tiles) makes them real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vid A. Reid, Acadia Univer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8E5-3366-46A7-8C97-20CEA5D9BE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he same concept that was applied with multiplication of integers, think of the first factor as the coun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ame rules app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2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is the counter, so we need three rows of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886-371A-4E80-9C6D-17C751E21B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63400" y="1782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2)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Groups of x to get three x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groups of 2 to get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038480" y="27432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38480" y="32004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36576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27432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05720" y="27432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3200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705720" y="3200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36576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05720" y="36576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82920" y="178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 =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03880" y="178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6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E21-48B5-449C-B504-1441818D984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000"/>
                            </p:stCondLst>
                            <p:childTnLst>
                              <p:par>
                                <p:cTn id="9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486400" y="685800"/>
            <a:ext cx="2133720" cy="19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33720" y="685800"/>
            <a:ext cx="2133360" cy="198108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86400" y="312408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33720" y="31240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86400" y="38862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38098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4724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666880" y="4724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43400" y="4724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5981760" y="4610160"/>
            <a:ext cx="213336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800600" y="4724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5400000">
            <a:off x="37800" y="37717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FE76-E0D9-49E4-B623-778DB320625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del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ebra tiles can be used to model express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 the simplification of express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, subtract, multiply, divide, or factor polynomi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8BE-6C2B-4330-B93B-469A172EC5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0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del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or +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19520" y="1523880"/>
            <a:ext cx="2133360" cy="198144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29200" y="1523880"/>
            <a:ext cx="2133720" cy="198144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38098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8098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19520" y="42670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42670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68520" y="53341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25720" y="53341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82920" y="53341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ABF-B933-4D1A-9817-CAEDD3E1E86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lgebra Ti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cooperative learning, improve discourse in classroom by giving students objects to think with and talk abou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en I listen, I h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en I see, I rememb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ut when I do, I understa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2D5-A7DB-4D39-9513-ABC7892C2D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 each of the given expressions with algebra ti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w a pictorial diagram of the proc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symbolic express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45720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34120" y="4572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1320" y="4572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4572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05720" y="4572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6AB-3A09-40AC-A50F-8376DCC11D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00400" y="19810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0040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410080" y="19810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19810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10080" y="2438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00400" y="31240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3581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40384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00400" y="44956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31240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31240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8F1-FFBD-402D-8CF3-EF890B26AE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lgebra tiles to simplify each of the given expressions.  Combine like terms.  Look for zero pairs.  Draw a diagram to represent the proc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symbolic expression that represents each st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4 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49F-91A9-48CB-9176-FECE709F4B2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63400" y="1692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4 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28954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0060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09880" y="2438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267080" y="2438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09880" y="28954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267080" y="28954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47920" y="4792680"/>
            <a:ext cx="48765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e like terms to get thre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s and five positives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1692360"/>
            <a:ext cx="24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0B8-B604-4CD7-8834-B96EC02057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-0.35833 0.13333 E">
                                      <p:cBhvr>
                                        <p:cTn id="1172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5833 0.13333 E">
                                      <p:cBhvr>
                                        <p:cTn id="1175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1 – 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process can be used with problems containin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3) + (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3) – (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DB4-0102-486A-B912-356929BA92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ebra tiles can be used to model substitution.  Represent original expression with tiles.  Then replace each rectangle with the appropriate tile value.  Combine like ter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+ 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536-9862-42D1-8535-40B723D70B0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 + 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 + 2(4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 + 8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14400" y="4343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4343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48006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28800" y="43434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28800" y="48006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34120" y="274320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772400" y="27432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229600" y="27432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772400" y="3200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29600" y="3200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2666880"/>
            <a:ext cx="0" cy="114300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4120" y="1981080"/>
            <a:ext cx="19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7400" y="4343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14600" y="4343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71800" y="4343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29000" y="4343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057400" y="48006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14600" y="48006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971800" y="48006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29000" y="48006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564-C9ED-43C4-838F-1AB3A0D65A7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5 0 E">
                                      <p:cBhvr>
                                        <p:cTn id="1279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5 0 E">
                                      <p:cBhvr>
                                        <p:cTn id="1281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5 0 E">
                                      <p:cBhvr>
                                        <p:cTn id="128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5 0 E">
                                      <p:cBhvr>
                                        <p:cTn id="1285" dur="2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1287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1289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1291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1293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2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lving Equ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gebra tiles can be used to explain and justify the equation solving process.  The development of the equation solving model is based on two ide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quivalent Equations are created if equivalent operations are performed on each side of the equation. (Which means to use the additon, subtraction, mulitplication, or division properties of equality.)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hat you do to one side of the equation you must do to the other side of the equ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ariables can be isolated by using the Additive Inverse Property ( &amp; zero pairs) and the Multiplicative Inverse Proerty ( &amp; dividing out common factors)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goal is to isolate the variab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77C-6362-40B2-878B-339E4368DFC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lving Equ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2 =  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5400000">
            <a:off x="3970080" y="265896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54688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0408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9936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75656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21376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546880" y="2895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04080" y="2895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299360" y="2895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756560" y="2895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18480" y="2057400"/>
            <a:ext cx="0" cy="152388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31880" y="4160880"/>
            <a:ext cx="77724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two positives are the same as three positives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two negatives to both sides of the equation; makes zeroes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on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is the same as one positive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233208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2    -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86000" y="278928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= 1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EEE-A331-4766-9AFF-A5CE3B09D03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8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0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6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2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2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297320" y="3794040"/>
            <a:ext cx="38088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97320" y="3611520"/>
            <a:ext cx="38088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97320" y="36115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lving Equ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21880" y="1874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÷2    ÷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½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68920" y="17827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97320" y="17827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297320" y="22399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97320" y="31543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7320" y="2697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68920" y="2330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22240" y="4800600"/>
            <a:ext cx="713268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are the same as five negatives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vide both sides into two equal partitions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Two and a half negativ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is the same a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11720" y="1782720"/>
            <a:ext cx="0" cy="228600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E1C7-D180-4783-833E-BAA25E98147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0.0033 0.13241 E">
                                      <p:cBhvr>
                                        <p:cTn id="1476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85185E-006 L 0.00069 0.1456 E">
                                      <p:cBhvr>
                                        <p:cTn id="1484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77778E-006 L 8.33333E-007 -0.06666 E">
                                      <p:cBhvr>
                                        <p:cTn id="148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556E-006 L 3.33333E-006 0.07987 E">
                                      <p:cBhvr>
                                        <p:cTn id="1488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3.33333E-006 -0.13333 E">
                                      <p:cBhvr>
                                        <p:cTn id="1493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6296E-006 L 3.33333E-006 0.05324 E">
                                      <p:cBhvr>
                                        <p:cTn id="1495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1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1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lgebra Ti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ebra tiles can be used to model operations involving integ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the small yellow square represent +1 and the small red square (the flip-side) represent -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44197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44197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502920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yellow and red squares are additive inverses of each other.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4D0-CDFD-4C58-AA0D-2A95E51063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lving Equ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1096920" y="1692360"/>
                <a:ext cx="12812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761080" y="214956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303880" y="1692360"/>
            <a:ext cx="0" cy="182880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4572000" y="2057400"/>
            <a:ext cx="365040" cy="365040"/>
            <a:chOff x="4572000" y="2057400"/>
            <a:chExt cx="365040" cy="365040"/>
          </a:xfrm>
        </p:grpSpPr>
        <p:sp>
          <p:nvSpPr>
            <p:cNvPr id="435" name=""/>
            <p:cNvSpPr/>
            <p:nvPr/>
          </p:nvSpPr>
          <p:spPr>
            <a:xfrm>
              <a:off x="4572000" y="2057400"/>
              <a:ext cx="365040" cy="365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72000" y="2057400"/>
              <a:ext cx="18396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731880" y="4708440"/>
            <a:ext cx="74055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half is the same as one negativ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e the opposite of both sides of the equation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One half of a nega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is the same a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754520" y="2057400"/>
            <a:ext cx="18252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22240" y="2697120"/>
            <a:ext cx="210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1  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·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-1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822240" y="3154320"/>
                <a:ext cx="12938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E3D-08B2-44A3-A3B7-CA67495E4EB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53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4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7" dur="1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lving Equ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1279440" y="1692360"/>
                <a:ext cx="12812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4" name=""/>
          <p:cNvSpPr/>
          <p:nvPr/>
        </p:nvSpPr>
        <p:spPr>
          <a:xfrm>
            <a:off x="7315200" y="223992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772400" y="223992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50160" y="2057400"/>
            <a:ext cx="0" cy="182880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479840" y="2239920"/>
            <a:ext cx="1919520" cy="366840"/>
            <a:chOff x="4479840" y="2239920"/>
            <a:chExt cx="1919520" cy="366840"/>
          </a:xfrm>
        </p:grpSpPr>
        <p:sp>
          <p:nvSpPr>
            <p:cNvPr id="448" name=""/>
            <p:cNvSpPr/>
            <p:nvPr/>
          </p:nvSpPr>
          <p:spPr>
            <a:xfrm>
              <a:off x="4479840" y="2239920"/>
              <a:ext cx="191952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761080" y="2239920"/>
              <a:ext cx="0" cy="366840"/>
            </a:xfrm>
            <a:prstGeom prst="line">
              <a:avLst/>
            </a:prstGeom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479840" y="2239920"/>
            <a:ext cx="641520" cy="3668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31880" y="4068720"/>
            <a:ext cx="740556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third of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same as two negatives 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y both sides by three (or make both sides three times larger)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same as six negatives</a:t>
            </a:r>
            <a:r>
              <a:rPr b="0" i="1" lang="en-US" sz="2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21360" y="2239920"/>
            <a:ext cx="641160" cy="3668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61080" y="2239920"/>
            <a:ext cx="641160" cy="3668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315200" y="269712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772400" y="269712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15200" y="315432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772400" y="315432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96920" y="2697120"/>
            <a:ext cx="201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•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3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•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3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006560" y="3154320"/>
            <a:ext cx="201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x   </a:t>
            </a:r>
            <a:r>
              <a:rPr b="0" lang="en-US" sz="3000" spc="-1" strike="noStrike">
                <a:solidFill>
                  <a:srgbClr val="000000"/>
                </a:solidFill>
                <a:latin typeface="Arial Unicode MS"/>
                <a:ea typeface="Arial"/>
              </a:rPr>
              <a:t>=  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BFCA-06B2-4781-8813-D3173931B34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lving Equ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65040" y="1692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3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5400000">
            <a:off x="3497040" y="24764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5400000">
            <a:off x="3039840" y="24764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5400000">
            <a:off x="6073560" y="24764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014800" y="187488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62720" y="187488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014800" y="233208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574040" y="23320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31240" y="23320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031240" y="18748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574040" y="18748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31240" y="27892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562720" y="23320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14800" y="278928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27892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574040" y="27892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574040" y="32464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31240" y="32464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218280" y="1782720"/>
            <a:ext cx="0" cy="182880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31880" y="3987720"/>
            <a:ext cx="78627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ree positives are the same as on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five negatives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n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both sides of the equation; simplify to get on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ree the same as five negative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dd three negatives to both sides; simplify to g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he same as eight negatives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914400" y="20574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-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22240" y="25146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+ 3 =   -5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14400" y="287964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+ -3   + - 3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71600" y="333684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=   -8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AEF-3E46-4FC1-B8CD-BDE9418A0FB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10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5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0" dur="10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1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3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6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0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2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4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6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lving Equ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782720"/>
            <a:ext cx="475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1) + 5 = 2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3 + 5 = 2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2 = 2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2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   + -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2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-2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     -2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 -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ame as four negativ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14800" y="187488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765840" y="187488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218280" y="18748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392960" y="1692360"/>
            <a:ext cx="0" cy="182880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114800" y="233208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218280" y="23320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114800" y="278928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218280" y="27892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765840" y="233208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765840" y="278928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65840" y="324648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765840" y="370368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5400000">
            <a:off x="6713280" y="24764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5400000">
            <a:off x="8594280" y="169200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5400000">
            <a:off x="7170480" y="24764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5400000">
            <a:off x="8594280" y="214920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8594280" y="260640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5400000">
            <a:off x="8594280" y="306360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FFD-AC00-4FFA-951D-6D327D6DAE0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0" dur="indefinite" restart="never" nodeType="tmRoot">
          <p:childTnLst>
            <p:seq>
              <p:cTn id="1771" dur="indefinite" nodeType="mainSeq">
                <p:childTnLst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10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006 0 E">
                                      <p:cBhvr>
                                        <p:cTn id="1845" dur="1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006 0 E">
                                      <p:cBhvr>
                                        <p:cTn id="1847" dur="1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006 0 E">
                                      <p:cBhvr>
                                        <p:cTn id="1849" dur="1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10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7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9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1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3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5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7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0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3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9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5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 E">
                                      <p:cBhvr>
                                        <p:cTn id="1889" dur="1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 E">
                                      <p:cBhvr>
                                        <p:cTn id="1891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6" dur="10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 0 E">
                                      <p:cBhvr>
                                        <p:cTn id="1914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 0 E">
                                      <p:cBhvr>
                                        <p:cTn id="1916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 0 E">
                                      <p:cBhvr>
                                        <p:cTn id="1918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1" dur="10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6" dur="1000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9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5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1000"/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1000"/>
                                        <p:tgtEl>
                                          <p:spTgt spid="4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ication using “base ten blocks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2)(1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nk of it as (10+2)(10+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ication using the array method allows students to see all four sub-produ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1F44-4276-4F3B-916B-9EBEA5E4555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8" dur="indefinite" restart="never" nodeType="tmRoot">
          <p:childTnLst>
            <p:seq>
              <p:cTn id="1949" dur="indefinite" nodeType="mainSeq">
                <p:childTnLst>
                  <p:par>
                    <p:cTn id="1950" fill="hold">
                      <p:stCondLst>
                        <p:cond delay="0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1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1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4" dur="1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9" dur="10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plication using “Area Model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2)(13) = (10+2)(10+3)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 + 30 + 20 + 6 = 15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463760" y="2879640"/>
            <a:ext cx="0" cy="327672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3336840"/>
            <a:ext cx="457200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279440" y="5165640"/>
            <a:ext cx="18432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79440" y="5349960"/>
            <a:ext cx="18432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279440" y="3336840"/>
            <a:ext cx="184320" cy="18288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5400000">
            <a:off x="2286000" y="2332080"/>
            <a:ext cx="184320" cy="18288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92560" y="3154320"/>
            <a:ext cx="18396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75080" y="3154320"/>
            <a:ext cx="18396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657600" y="3154320"/>
            <a:ext cx="18432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292560" y="3429000"/>
            <a:ext cx="0" cy="21034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75080" y="3429000"/>
            <a:ext cx="0" cy="21034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657600" y="3429000"/>
            <a:ext cx="0" cy="21034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840120" y="3429000"/>
            <a:ext cx="0" cy="21034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554120" y="5532480"/>
            <a:ext cx="22860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554120" y="5349960"/>
            <a:ext cx="22860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554120" y="5165640"/>
            <a:ext cx="22860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63760" y="3336840"/>
            <a:ext cx="1828800" cy="18288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736640" y="3886200"/>
            <a:ext cx="11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x 10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736640" y="5257800"/>
            <a:ext cx="13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x 2 = 2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292560" y="3336840"/>
            <a:ext cx="183960" cy="18288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475080" y="3336840"/>
            <a:ext cx="183960" cy="18288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657600" y="3336840"/>
            <a:ext cx="184320" cy="18288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5400000">
            <a:off x="2286000" y="4527360"/>
            <a:ext cx="183960" cy="18288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5400000">
            <a:off x="2286000" y="4343400"/>
            <a:ext cx="184320" cy="18288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292560" y="5165640"/>
            <a:ext cx="18396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75080" y="5165640"/>
            <a:ext cx="18396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657600" y="5165640"/>
            <a:ext cx="18432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92560" y="5349960"/>
            <a:ext cx="18396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5080" y="5349960"/>
            <a:ext cx="18396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657600" y="5349960"/>
            <a:ext cx="18432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382920" y="3794040"/>
            <a:ext cx="13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x 3 = 3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382920" y="5257800"/>
            <a:ext cx="13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x 3 = 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46280" y="5257800"/>
            <a:ext cx="13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x 2 = 2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1A17-BC44-49A1-A929-4239BC72B20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ply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553760" y="1600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2)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36640" y="2239920"/>
            <a:ext cx="210204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5400000">
            <a:off x="320400" y="3657600"/>
            <a:ext cx="210168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189080" y="489276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89080" y="525780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40120" y="223992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06960" y="223992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0" y="223992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40120" y="489276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06960" y="489276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0" y="489276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840120" y="525780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206960" y="525780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0" y="525780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736640" y="2789280"/>
            <a:ext cx="2102040" cy="210168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736640" y="4892760"/>
            <a:ext cx="210204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736640" y="5257800"/>
            <a:ext cx="210204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5400000">
            <a:off x="2971800" y="3657600"/>
            <a:ext cx="210168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5400000">
            <a:off x="3338640" y="3657600"/>
            <a:ext cx="210168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3703680" y="3657600"/>
            <a:ext cx="210168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46280" y="2239920"/>
            <a:ext cx="0" cy="365760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189080" y="2697120"/>
            <a:ext cx="396252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31880" y="598968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+  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6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 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851440" y="20574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in each section of the area mode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855040" y="324648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like term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700-F1B6-4A98-B75A-C2F04323C1C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0" dur="indefinite" restart="never" nodeType="tmRoot">
          <p:childTnLst>
            <p:seq>
              <p:cTn id="1971" dur="indefinite" nodeType="mainSeq">
                <p:childTnLst>
                  <p:par>
                    <p:cTn id="1972" fill="hold">
                      <p:stCondLst>
                        <p:cond delay="0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6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7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0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8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1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6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1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ply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523880" y="1523520"/>
            <a:ext cx="7010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1)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5400000">
            <a:off x="114120" y="36194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22096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657600" y="2209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038480" y="22096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419720" y="2209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800600" y="2209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90720" y="48769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800600" y="48769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523880" y="2743200"/>
            <a:ext cx="2133720" cy="213372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5400000">
            <a:off x="2781000" y="36194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rot="5400000">
            <a:off x="3161880" y="361944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rot="5400000">
            <a:off x="3543120" y="36194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5400000">
            <a:off x="3924000" y="36194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48769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038480" y="487692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419720" y="48769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523880" y="487692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447920" y="2209680"/>
            <a:ext cx="0" cy="327672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14400" y="2666880"/>
            <a:ext cx="457200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382920" y="5622840"/>
            <a:ext cx="237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209376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91320" y="23623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Fill in each section of the area mode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54680" y="3084480"/>
            <a:ext cx="208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Make Zeroes or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combine like term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and simplif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880" y="562284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098720" y="5622840"/>
            <a:ext cx="82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920960" y="5622840"/>
            <a:ext cx="82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651040" y="561816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F1E-CF30-4A3D-AD85-0DF669C7DB2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0" dur="indefinite" restart="never" nodeType="tmRoot">
          <p:childTnLst>
            <p:seq>
              <p:cTn id="2061" dur="indefinite" nodeType="mainSeq">
                <p:childTnLst>
                  <p:par>
                    <p:cTn id="2062" fill="hold">
                      <p:stCondLst>
                        <p:cond delay="0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3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1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8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1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4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1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3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2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14914 -0.27894 E">
                                      <p:cBhvr>
                                        <p:cTn id="2155" dur="1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0.10747 -0.22546 E">
                                      <p:cBhvr>
                                        <p:cTn id="2157" dur="1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658 -0.17222 E">
                                      <p:cBhvr>
                                        <p:cTn id="2159" dur="1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2414 -0.11898 E">
                                      <p:cBhvr>
                                        <p:cTn id="2161" dur="1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006 0 E">
                                      <p:cBhvr>
                                        <p:cTn id="2163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006 0 E">
                                      <p:cBhvr>
                                        <p:cTn id="2165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006 0 E">
                                      <p:cBhvr>
                                        <p:cTn id="2167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9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ply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2)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2)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CB45-5688-4A16-B874-15BEF197DE0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ebra tiles can be used to factor polynomials.  Use tiles and the frame to represent the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he tiles to fill in the array so as to form a rectangle inside the fra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prepared to use zero pairs to fill in the arr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w a pic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C6B-F83E-4654-B6A7-404AD2A7161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7" dur="indefinite" restart="never" nodeType="tmRoot">
          <p:childTnLst>
            <p:seq>
              <p:cTn id="2178" dur="indefinite" nodeType="mainSeq">
                <p:childTnLst>
                  <p:par>
                    <p:cTn id="2179" fill="hold">
                      <p:stCondLst>
                        <p:cond delay="0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1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1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1" dur="10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10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lgebra Ti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ebra tiles can be used to model operations involving variab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the green rectangle represent +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the red rectangle (the flip-side) represent -1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502920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een and red rods are additive inverses of each other.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41972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44197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B4B-573A-4AA5-9DD0-8F74092771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06560" y="1600200"/>
            <a:ext cx="213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36640" y="2239920"/>
            <a:ext cx="210204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846680" y="1782720"/>
            <a:ext cx="210168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846680" y="2239920"/>
            <a:ext cx="210168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846680" y="2697120"/>
            <a:ext cx="210168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840120" y="223992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189080" y="278928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189080" y="315432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89080" y="352116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132680" y="178272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32680" y="223992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132680" y="269712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096920" y="2697120"/>
            <a:ext cx="342900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646280" y="2239920"/>
            <a:ext cx="0" cy="190512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0" y="1660680"/>
            <a:ext cx="82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925720" y="1600200"/>
            <a:ext cx="127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1)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846680" y="4251240"/>
            <a:ext cx="210168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132680" y="425124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32680" y="470844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132680" y="516564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096920" y="5165640"/>
            <a:ext cx="411480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646280" y="4708440"/>
            <a:ext cx="0" cy="190512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589880" y="425124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589880" y="470844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589880" y="516564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736640" y="4708440"/>
            <a:ext cx="210204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840120" y="470844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189080" y="525780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189080" y="562284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72000" y="470844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206960" y="470844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0" y="4068720"/>
            <a:ext cx="82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925720" y="4037040"/>
            <a:ext cx="127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846680" y="4708440"/>
            <a:ext cx="210168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035760" y="5165640"/>
            <a:ext cx="29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Note the two are positive, this needs to be developed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4078-5A6D-461D-B34E-3B97E9F0FAD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3" dur="indefinite" restart="never" nodeType="tmRoot">
          <p:childTnLst>
            <p:seq>
              <p:cTn id="2204" dur="indefinite" nodeType="mainSeq">
                <p:childTnLst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9" dur="2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3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9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2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5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8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44444E-006 L -0.3349 0.14676 E">
                                      <p:cBhvr>
                                        <p:cTn id="2232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11111E-006 L -0.3349 0.13357 E">
                                      <p:cBhvr>
                                        <p:cTn id="2234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2222E-006 L -0.3349 0.12014 E">
                                      <p:cBhvr>
                                        <p:cTn id="2236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00024 L -0.3599 0.14676 E">
                                      <p:cBhvr>
                                        <p:cTn id="2238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00023 L -0.3599 0.13357 E">
                                      <p:cBhvr>
                                        <p:cTn id="2240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00023 L -0.3599 0.12014 E">
                                      <p:cBhvr>
                                        <p:cTn id="2242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4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9" dur="2000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7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0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3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6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9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2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5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-0.3401 0.14653 E">
                                      <p:cBhvr>
                                        <p:cTn id="2309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401 0.13333 E">
                                      <p:cBhvr>
                                        <p:cTn id="2311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-0.36007 0.14676 E">
                                      <p:cBhvr>
                                        <p:cTn id="2313" dur="2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24 L -0.36007 0.13357 E">
                                      <p:cBhvr>
                                        <p:cTn id="2315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023 L -0.31997 0.01343 E">
                                      <p:cBhvr>
                                        <p:cTn id="2317" dur="2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023 L -0.33003 0.14676 E">
                                      <p:cBhvr>
                                        <p:cTn id="2319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024 L -0.33003 0.13357 E">
                                      <p:cBhvr>
                                        <p:cTn id="2321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023 L -0.36997 0.0669 E">
                                      <p:cBhvr>
                                        <p:cTn id="2323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5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88720" y="1692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6576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038480" y="2438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5400000">
            <a:off x="11412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41972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8006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99072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9072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2971800"/>
            <a:ext cx="2133720" cy="213372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5400000">
            <a:off x="278100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5400000">
            <a:off x="3161880" y="384804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5400000">
            <a:off x="354312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5400000">
            <a:off x="392400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523880" y="51055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54864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65760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038480" y="51055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41972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80060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65760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41972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38480" y="54864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80060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47920" y="2438280"/>
            <a:ext cx="0" cy="365760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914400" y="2895480"/>
            <a:ext cx="449568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017880" y="169236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2)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4)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42F-06DC-472A-B398-CFC79CF7DD3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3" dur="indefinite" restart="never" nodeType="tmRoot">
          <p:childTnLst>
            <p:seq>
              <p:cTn id="2364" dur="indefinite" nodeType="mainSeq">
                <p:childTnLst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9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8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2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6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1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0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3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5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6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7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4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6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7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463400" y="1692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676520" y="2895480"/>
            <a:ext cx="2133360" cy="213372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676520" y="236232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5400000">
            <a:off x="266400" y="37717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5400000">
            <a:off x="2933280" y="377172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5400000">
            <a:off x="3314520" y="377172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rot="5400000">
            <a:off x="3695400" y="377172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676520" y="5029200"/>
            <a:ext cx="213336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676520" y="5410080"/>
            <a:ext cx="213336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50292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191120" y="50292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0" y="50292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809880" y="54100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91120" y="5410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72000" y="5410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809880" y="236232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191120" y="23623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72000" y="23623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143000" y="50292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143000" y="54100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600200" y="2362320"/>
            <a:ext cx="0" cy="365760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066680" y="2819520"/>
            <a:ext cx="419112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292560" y="1751040"/>
            <a:ext cx="2560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2)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E88-74DC-44F5-97B2-503F5F5CE50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8" dur="indefinite" restart="never" nodeType="tmRoot">
          <p:childTnLst>
            <p:seq>
              <p:cTn id="2459" dur="indefinite" nodeType="mainSeq">
                <p:childTnLst>
                  <p:par>
                    <p:cTn id="2460" fill="hold">
                      <p:stCondLst>
                        <p:cond delay="0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4" dur="10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4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7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1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6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9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2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6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9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2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1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2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6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4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371240" y="1782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600200" y="2971800"/>
            <a:ext cx="2133720" cy="213372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60020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600200" y="51055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600200" y="54864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rot="5400000">
            <a:off x="189720" y="384804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rot="5400000">
            <a:off x="2857320" y="384804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5400000">
            <a:off x="3238200" y="384804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19080" y="384804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066680" y="51055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066680" y="54864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733920" y="24382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114800" y="24382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495680" y="24382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733920" y="51055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114800" y="51055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495680" y="510552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33920" y="54864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54864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495680" y="54864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523880" y="2438280"/>
            <a:ext cx="0" cy="358164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990720" y="2895480"/>
            <a:ext cx="411480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017880" y="1843200"/>
            <a:ext cx="34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2)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656-6FA6-46CA-93FD-1F7A816336B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5" dur="indefinite" restart="never" nodeType="tmRoot">
          <p:childTnLst>
            <p:seq>
              <p:cTn id="2546" dur="indefinite" nodeType="mainSeq">
                <p:childTnLst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6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1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4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7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0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3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6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1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9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2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1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2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5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6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9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0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5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3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6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0BE9-5F26-4102-AC86-7C12A803F33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vid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ebra tiles can be used to divide polynomi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iles and frame to represent problem.  Dividend should form array inside frame.  Divisor will form one of the dimensions (one side) of the fra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prepared to use zero pairs in the divide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778-8E0A-4256-8117-0F72B7E92B6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4" dur="indefinite" restart="never" nodeType="tmRoot">
          <p:childTnLst>
            <p:seq>
              <p:cTn id="2625" dur="indefinite" nodeType="mainSeq">
                <p:childTnLst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vid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523880" y="1692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30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+ 7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+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676520" y="297180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676520" y="56386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5400000">
            <a:off x="266400" y="43815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676520" y="3505320"/>
            <a:ext cx="2133360" cy="213336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rot="5400000">
            <a:off x="2933280" y="438120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rot="5400000">
            <a:off x="3314880" y="43815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5400000">
            <a:off x="3695760" y="43815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rot="5400000">
            <a:off x="4076280" y="438120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rot="5400000">
            <a:off x="4457880" y="43815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rot="5400000">
            <a:off x="4838760" y="43815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09880" y="29718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9112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57200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952880" y="29718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3412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1500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143000" y="5638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809880" y="56386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191120" y="5638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0" y="5638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952880" y="56386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334120" y="5638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715000" y="5638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600200" y="2971800"/>
            <a:ext cx="0" cy="320040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066680" y="3429000"/>
            <a:ext cx="518184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657600" y="1936800"/>
            <a:ext cx="283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66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 6)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4A5-352C-4AE7-B1FC-CCC44B007AC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4" dur="indefinite" restart="never" nodeType="tmRoot">
          <p:childTnLst>
            <p:seq>
              <p:cTn id="2645" dur="indefinite" nodeType="mainSeq">
                <p:childTnLst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0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0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5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0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4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2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6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5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8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1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0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5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6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7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8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1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2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5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6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9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0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4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vid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+ 7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+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+ 5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–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–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– 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+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– 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A24B-09DE-47A9-8362-6C8DE37FAAC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ebra tiles can be made using the Ellison (die-cut) mach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-line reproducible can be found by doing a search for algebra ti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tual Algebra Tiles at HRW 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my.hrw.com/math06_07/nsmedia/tools/Algebra_Tiles/Algebra_Tiles.html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Library of Virtual Manipulatives 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nlvm.usu.edu/en/nav/topic_t_2.html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00A-607E-470C-BBB3-2F4EAF4EAFA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vid McReyn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MS PreK-16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el Villarre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th Texas Rural Systemic Initi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 Ann Mosier &amp; Roland O’Dani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aborative for Teaching and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nership for Reform Initiatives in Science and Mathema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249-7753-4880-8317-24D08314CA5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lgebra Ti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the blue square represen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The red square (flip-side of blue) represents 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with integers, the red shapes and their corresponding flip-sides form a zero p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4038480"/>
            <a:ext cx="2133720" cy="198144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3962520"/>
            <a:ext cx="2133720" cy="19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C53E-D2A1-4765-89E0-9C10630566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486400" y="685800"/>
            <a:ext cx="2133720" cy="19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685800"/>
            <a:ext cx="2133360" cy="198108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312408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31240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38862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38098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4724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4724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724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5981760" y="4610160"/>
            <a:ext cx="213336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4724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37800" y="37717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ECD-028F-4672-8DD0-9CBD13EB32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Zero Pai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led zero pairs because they are additive inverses of each 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put together, they model ze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use “cancel out” for zeroes use zero pairs or add up to ze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44197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44197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0292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50292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44197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502920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44197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502920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F61-0CAA-493B-8E0C-C7F764DF62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ddit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 can be viewed as “combining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ing involves the forming and removing of al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ero pai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of the given examples, use algebra tiles to model the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pictorial diagrams which show the mod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anipulatio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FD3-3C42-492D-84D9-FA509F0643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20:34:15Z</dcterms:created>
  <dc:creator>D. McReynolds</dc:creator>
  <dc:description/>
  <dc:language>en-US</dc:language>
  <cp:lastModifiedBy>Roland O'Daniel</cp:lastModifiedBy>
  <dcterms:modified xsi:type="dcterms:W3CDTF">2007-12-12T17:13:03Z</dcterms:modified>
  <cp:revision>53</cp:revision>
  <dc:subject/>
  <dc:title>Let’s Do  Algebra Tiles</dc:title>
</cp:coreProperties>
</file>